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D3EF-65BA-44E7-8478-D6A1366E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8419-DDA1-4CF8-9805-A84409C1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3D0A-4283-400A-A73C-CBE4A7A8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AC4B-CF35-4BF6-8207-C951272F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1EDB-3581-4F2C-BE49-A262B64C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DD9A-3FBA-4EE3-A756-208CCABC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72D2-48F9-43D5-8E2E-5600FBC8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42EB-DD6C-48C0-BEEE-B9BC6D07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A732-4281-40A0-9F68-0BDE95E2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BED8-87D4-4B63-922F-93C336A3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8BBD-7C4C-400F-834F-BB3886DE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9840-AB8B-45BD-8083-54884CF5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91E5-7E90-4B02-9D3B-283FE464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4967-2BDE-4FF8-B259-DCCD313D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D0F5-F2EC-4FE7-8D91-530819D9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C942-33F8-44D2-8C71-38D636C5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0FB0-1AD6-4DDB-B538-92E8EF93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D77B-0FC6-4DD6-A6D7-5C51E864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3E7E-6C98-4038-BFBF-5CE3B849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0DF2-DA5F-49FF-A8C0-34EB52EE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9AC27-E7AC-4FFC-A1D6-AD47AA5B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61C8F-D51D-4081-895A-2E0A3C20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814F-335F-40DF-B76E-88547B7A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9E011-CA1C-4A60-BBFE-820F06C1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00CB-1311-433C-AC5C-4EE63B14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1D89-7198-4B98-8C4B-A7E960A1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0EABE-E044-4788-991D-7B327D0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0A4B-B270-4375-A884-2F8457BE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EA16-E958-4EF8-8854-30474644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E63D3-1463-4D2A-85A0-442571E8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C778-5E75-4FB2-A993-E3FA7EDC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2A747-0D0A-402E-9393-F7484863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53700-9FDB-4FB0-B454-81CA574E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DBDE-29A7-4033-B196-2C574C8A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F813D-ADF4-4F59-A05F-5A1A4E07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774A2-3FB3-4EB9-93DE-102CC410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D34B-BA26-4D00-92FF-712C96FE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2D741-8D4B-44E2-81DD-7FEBC12D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A453-2206-44B8-AFD9-B25B726C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249D-4F96-4E3A-9F82-C1A8C1EA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3C32-C39A-47D3-87DC-08724AA8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7DE8-10D1-4CE3-9B72-4B23AE9B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851D5-5950-4338-A9B8-6536AB42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2F882-1AB3-43A8-8FAA-B66418C8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D59B-25A3-49B4-BEB8-D2E9E6F6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EB9D7-0238-4CEA-8C0A-B46C4EE3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5BFC7-2E96-4334-B053-3B472D6F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B25F7-A854-4A2D-88C8-10D42301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705C2-2FC3-4C38-B4D9-112FFA75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9EC7F-5540-4D80-A14E-617DA13C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A0181-41F6-43CA-902A-30A5355C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288C9-FA3F-4926-9197-67987CD1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7267D-1C61-42E3-9388-3705D91C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56908-8529-489A-83D2-D6FFB543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B4263-45B1-49DD-BB76-095A6115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57B2-49D0-4232-948E-3C1C9A55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D6EE8-E3A7-495B-A813-83421210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2D0A9-97A9-46BB-B2E4-74B8DFB0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CA6E0-031E-4620-976A-2945CB8F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76788-8982-43D4-96E7-22744999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E646B-1A22-4FBC-ABDA-8015B8C5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E71A8-C8AB-41D7-9C4F-F7D44D37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E8CC8-14E3-4502-AF80-70D6C56F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FE6A5-71AC-40C6-9503-5A3EEDAD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82627-DB5B-40F8-8F12-BAD704B1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4C5B0-7010-4C8F-A224-F01BC874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2244-C357-480E-A717-BAF1B249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FF551-378E-49D7-83C1-0DC584D8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0679A-BAD9-4694-AAFE-5087C66B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FA0EC-61BA-44FD-ADFE-B8E0DEA2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64290-02E1-4780-8B8F-B814A5B5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EC5C-FDE0-4A84-A212-8C23345C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F491-1D25-4953-B7FE-A37CA1DE82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6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6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6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9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2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3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7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6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77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8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9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1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82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3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4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85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6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7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88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0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1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2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4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7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9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00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1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2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3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5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6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7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8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9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0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1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2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5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7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8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9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0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21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2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3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24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27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0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3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4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5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6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7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8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0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4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42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143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44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5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6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7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50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2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53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4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5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56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7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8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59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0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1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62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3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4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65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68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9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0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71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2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3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74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5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76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7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0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3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4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5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6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8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9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0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1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4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5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6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7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7515-2507-43C0-AC8E-397DE8DF0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D36F-A79A-4B55-9985-777E2F6271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5913-E5EA-4CEB-9930-B1AA68FE3C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7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8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38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8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8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8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8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8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9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9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9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0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0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0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1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1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1" name="Group 183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2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2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2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3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3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3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4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4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4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45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45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5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5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0" name="Freeform 222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61" name="Freeform 223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6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6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6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6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6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7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7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7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7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7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7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8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8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8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8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8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8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8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9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9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9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9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9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1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C661-255F-4DCB-9515-339FD067A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5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8F9B-D5BE-4715-BB8F-7B6EEC2530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 elección de alimento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Eric Lundber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 advTm="2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ra el desayun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31" name="Picture 5" descr="FrostedMiniWheats_Cereal"/>
          <p:cNvPicPr/>
          <p:nvPr/>
        </p:nvPicPr>
        <p:blipFill>
          <a:blip r:embed="rId1"/>
          <a:stretch/>
        </p:blipFill>
        <p:spPr>
          <a:xfrm>
            <a:off x="0" y="1066680"/>
            <a:ext cx="2895480" cy="281952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7"/>
          <p:cNvSpPr/>
          <p:nvPr/>
        </p:nvSpPr>
        <p:spPr>
          <a:xfrm>
            <a:off x="228600" y="4419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l cereal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33" name="Picture 10" descr="dennys"/>
          <p:cNvPicPr/>
          <p:nvPr/>
        </p:nvPicPr>
        <p:blipFill>
          <a:blip r:embed="rId2"/>
          <a:stretch/>
        </p:blipFill>
        <p:spPr>
          <a:xfrm>
            <a:off x="3048120" y="1295280"/>
            <a:ext cx="3352680" cy="22100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2" descr="Orange_juice_without_any_fruits"/>
          <p:cNvPicPr/>
          <p:nvPr/>
        </p:nvPicPr>
        <p:blipFill>
          <a:blip r:embed="rId3"/>
          <a:stretch/>
        </p:blipFill>
        <p:spPr>
          <a:xfrm>
            <a:off x="6477120" y="1143000"/>
            <a:ext cx="2504880" cy="25146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3"/>
          <p:cNvSpPr/>
          <p:nvPr/>
        </p:nvSpPr>
        <p:spPr>
          <a:xfrm>
            <a:off x="3505320" y="403848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6781680" y="40831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Rectangle 15"/>
          <p:cNvSpPr/>
          <p:nvPr/>
        </p:nvSpPr>
        <p:spPr>
          <a:xfrm>
            <a:off x="3352680" y="3733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panqueques y huevos con tocino y chorizo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Rectangle 16"/>
          <p:cNvSpPr/>
          <p:nvPr/>
        </p:nvSpPr>
        <p:spPr>
          <a:xfrm>
            <a:off x="7201080" y="373284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jugo de naranj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 repeatCount="1000">
                                  <p:stCondLst>
                                    <p:cond delay="25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a el almuerz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640" name="Picture 5" descr="http://3.bp.blogspot.com/_kQvP_4N8rbw/S_x11GMUoSI/AAAAAAAAAb0/Yj6azElHa9g/s400/WesternBaconDouble_Burger.jpg"/>
          <p:cNvPicPr/>
          <p:nvPr/>
        </p:nvPicPr>
        <p:blipFill>
          <a:blip r:embed="rId1"/>
          <a:stretch/>
        </p:blipFill>
        <p:spPr>
          <a:xfrm>
            <a:off x="-17640" y="1295280"/>
            <a:ext cx="3141720" cy="2210040"/>
          </a:xfrm>
          <a:prstGeom prst="rect">
            <a:avLst/>
          </a:prstGeom>
          <a:ln w="0">
            <a:noFill/>
          </a:ln>
        </p:spPr>
      </p:pic>
      <p:sp>
        <p:nvSpPr>
          <p:cNvPr id="641" name="TextBox 1"/>
          <p:cNvSpPr/>
          <p:nvPr/>
        </p:nvSpPr>
        <p:spPr>
          <a:xfrm>
            <a:off x="12600" y="35352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con con queso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2" name="Picture 7" descr="http://www.greenteatrial.com/wp-content/uploads/2010/07/iced-tea.jpg"/>
          <p:cNvPicPr/>
          <p:nvPr/>
        </p:nvPicPr>
        <p:blipFill>
          <a:blip r:embed="rId2"/>
          <a:stretch/>
        </p:blipFill>
        <p:spPr>
          <a:xfrm>
            <a:off x="3200400" y="1185840"/>
            <a:ext cx="2533680" cy="234936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"/>
          <p:cNvSpPr/>
          <p:nvPr/>
        </p:nvSpPr>
        <p:spPr>
          <a:xfrm>
            <a:off x="3200400" y="355932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é helado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TextBox 6"/>
          <p:cNvSpPr/>
          <p:nvPr/>
        </p:nvSpPr>
        <p:spPr>
          <a:xfrm>
            <a:off x="6172200" y="3570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pas frita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5" name="Picture 9" descr="http://www.clickb4ueat.com/uploads/files1/arbys-curly-fries-ad2.jpg"/>
          <p:cNvPicPr/>
          <p:nvPr/>
        </p:nvPicPr>
        <p:blipFill>
          <a:blip r:embed="rId3"/>
          <a:stretch/>
        </p:blipFill>
        <p:spPr>
          <a:xfrm>
            <a:off x="5857920" y="1185840"/>
            <a:ext cx="2600280" cy="2382840"/>
          </a:xfrm>
          <a:prstGeom prst="rect">
            <a:avLst/>
          </a:prstGeom>
          <a:ln w="0">
            <a:noFill/>
          </a:ln>
        </p:spPr>
      </p:pic>
      <p:sp>
        <p:nvSpPr>
          <p:cNvPr id="646" name="TextBox 7"/>
          <p:cNvSpPr/>
          <p:nvPr/>
        </p:nvSpPr>
        <p:spPr>
          <a:xfrm>
            <a:off x="2108160" y="57783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ándwich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7" name="Picture 11" descr="http://www.easymealrecipes.net/wp-content/uploads/2009/02/french-loaf-club-sandwich.jpg"/>
          <p:cNvPicPr/>
          <p:nvPr/>
        </p:nvPicPr>
        <p:blipFill>
          <a:blip r:embed="rId4"/>
          <a:stretch/>
        </p:blipFill>
        <p:spPr>
          <a:xfrm>
            <a:off x="1589040" y="3865680"/>
            <a:ext cx="2519280" cy="1925640"/>
          </a:xfrm>
          <a:prstGeom prst="rect">
            <a:avLst/>
          </a:prstGeom>
          <a:ln w="0">
            <a:noFill/>
          </a:ln>
        </p:spPr>
      </p:pic>
      <p:sp>
        <p:nvSpPr>
          <p:cNvPr id="648" name="TextBox 8"/>
          <p:cNvSpPr/>
          <p:nvPr/>
        </p:nvSpPr>
        <p:spPr>
          <a:xfrm>
            <a:off x="5486400" y="57783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ca col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9" name="Picture 13" descr="http://www.amphion.be/images/cokezerovisID.jpg"/>
          <p:cNvPicPr/>
          <p:nvPr/>
        </p:nvPicPr>
        <p:blipFill>
          <a:blip r:embed="rId5"/>
          <a:stretch/>
        </p:blipFill>
        <p:spPr>
          <a:xfrm>
            <a:off x="5089680" y="3889440"/>
            <a:ext cx="260640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a el cen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1" name="Picture 5" descr="http://thecriticalpath.info/wp-content/uploads/2010/05/flank_steak.jpg"/>
          <p:cNvPicPr/>
          <p:nvPr/>
        </p:nvPicPr>
        <p:blipFill>
          <a:blip r:embed="rId1"/>
          <a:stretch/>
        </p:blipFill>
        <p:spPr>
          <a:xfrm>
            <a:off x="63360" y="1371600"/>
            <a:ext cx="2832120" cy="1905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St. Louis ribs"/>
          <p:cNvPicPr/>
          <p:nvPr/>
        </p:nvPicPr>
        <p:blipFill>
          <a:blip r:embed="rId2"/>
          <a:stretch/>
        </p:blipFill>
        <p:spPr>
          <a:xfrm>
            <a:off x="2906640" y="1371600"/>
            <a:ext cx="2895840" cy="1905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http://thehiphopupdate.com/wp-content/uploads/2010/04/Iced-cold-lemonade.jpg"/>
          <p:cNvPicPr/>
          <p:nvPr/>
        </p:nvPicPr>
        <p:blipFill>
          <a:blip r:embed="rId3"/>
          <a:stretch/>
        </p:blipFill>
        <p:spPr>
          <a:xfrm>
            <a:off x="5486400" y="1371600"/>
            <a:ext cx="3657600" cy="19051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9" descr="http://themoderatevoice.com/wordpress-engine/files/2009-june/pepsi.gif"/>
          <p:cNvPicPr/>
          <p:nvPr/>
        </p:nvPicPr>
        <p:blipFill>
          <a:blip r:embed="rId4"/>
          <a:stretch/>
        </p:blipFill>
        <p:spPr>
          <a:xfrm>
            <a:off x="5334120" y="4114800"/>
            <a:ext cx="3429000" cy="198108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"/>
          <p:cNvSpPr/>
          <p:nvPr/>
        </p:nvSpPr>
        <p:spPr>
          <a:xfrm>
            <a:off x="5943600" y="3505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imona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TextBox 2"/>
          <p:cNvSpPr/>
          <p:nvPr/>
        </p:nvSpPr>
        <p:spPr>
          <a:xfrm>
            <a:off x="5486400" y="6400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epsi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TextBox 3"/>
          <p:cNvSpPr/>
          <p:nvPr/>
        </p:nvSpPr>
        <p:spPr>
          <a:xfrm>
            <a:off x="3200400" y="3505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stilla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TextBox 4"/>
          <p:cNvSpPr/>
          <p:nvPr/>
        </p:nvSpPr>
        <p:spPr>
          <a:xfrm>
            <a:off x="380880" y="3559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ile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9" name="Picture 11" descr="http://www.iupui.edu/~psyclubs/pizza_ua%5B1%5D.jpg"/>
          <p:cNvPicPr/>
          <p:nvPr/>
        </p:nvPicPr>
        <p:blipFill>
          <a:blip r:embed="rId5"/>
          <a:stretch/>
        </p:blipFill>
        <p:spPr>
          <a:xfrm>
            <a:off x="200160" y="4295880"/>
            <a:ext cx="3260520" cy="1952640"/>
          </a:xfrm>
          <a:prstGeom prst="rect">
            <a:avLst/>
          </a:prstGeom>
          <a:ln w="0">
            <a:noFill/>
          </a:ln>
        </p:spPr>
      </p:pic>
      <p:sp>
        <p:nvSpPr>
          <p:cNvPr id="660" name="TextBox 5"/>
          <p:cNvSpPr/>
          <p:nvPr/>
        </p:nvSpPr>
        <p:spPr>
          <a:xfrm>
            <a:off x="380880" y="63230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izza de pepperoni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 advTm="4000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7:50Z</dcterms:created>
  <dc:creator>lundbergeri</dc:creator>
  <dc:description/>
  <dc:language>en-US</dc:language>
  <cp:lastModifiedBy>Main</cp:lastModifiedBy>
  <dcterms:modified xsi:type="dcterms:W3CDTF">2011-04-15T00:57:52Z</dcterms:modified>
  <cp:revision>10</cp:revision>
  <dc:subject/>
  <dc:title>Lo que es para…</dc:title>
</cp:coreProperties>
</file>